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07BA2-D750-48D1-8030-DBC2A00BC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497EB-1AFA-4730-9ECD-B6E16A179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F67AD-C73D-44F0-BADE-355718CA9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A963C-4172-4E07-BB7A-87A77409C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79374-E75E-4322-8C90-61D802CFB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BBA37-906B-4173-8E22-1CE54BCB1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E4832-D305-4E09-A8AC-5AFE0B109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CF2B4-05C7-42C9-AB6C-C51801ABA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FBB5F-1165-475C-8C09-09DE6E6B3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B8487-073A-40D8-9298-A1FCAC8FE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37CEE-0230-4671-82D3-1BBCD5485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5D97C-9F96-4EE4-A0AE-CBFE8BBBD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37709-A780-4609-B3AC-543D0F424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00CE3-138A-45A2-AE84-319D0B324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6774E-F963-480A-AD71-26977ED7E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328CC-84BC-4901-B577-C0327180D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EAF6B-1E5C-4FB6-87F0-02B174A4C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72423-BDC2-4F0D-9AE1-FA28722F3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79E39-F42A-4BEE-B22C-0262B1498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421A9-157C-4C17-B795-B114C2B48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AA118-6F36-47C3-9B02-60C1C61BB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64BA2-E063-40E8-97F3-F0DB7936C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CBCAB-0D4D-482B-A37A-390E9F762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19ECB-5FB0-48D0-BD6A-32D1D22C6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EC852-08EE-4F1F-85C4-275B50373D9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6B923-73FC-414E-81C4-25BA3F532DD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istributed Applica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w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xt speci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ble in limited con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efi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ICE and AN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s without t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value assigned, type also assig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assigned at ru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alternative known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type used to create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 par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ricted subset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ne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valu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licit listing of all valid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ed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form new subtype from existing sub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values of subtypes it contai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 rang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and Integer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endpoints of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tted alphabet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racter st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values that can be constructed using sub-alphab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ze constra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s number of items in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number of bits in bi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ner type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ed to SEQUENCE, SEQUENCE OF, SET, SET OF, CH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values from parent that satisfy one or more contra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8105"/>
          <a:stretch/>
        </p:blipFill>
        <p:spPr>
          <a:xfrm>
            <a:off x="1371600" y="1519200"/>
            <a:ext cx="579132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47618"/>
          <a:stretch/>
        </p:blipFill>
        <p:spPr>
          <a:xfrm>
            <a:off x="762120" y="1371600"/>
            <a:ext cx="716256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53582" r="0" b="2309"/>
          <a:stretch/>
        </p:blipFill>
        <p:spPr>
          <a:xfrm>
            <a:off x="609480" y="1469880"/>
            <a:ext cx="7848720" cy="50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- SN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s are becoming indispens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ity makes failure more lik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automatic network management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s required to allow multi-vendo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ver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information base (MI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tools for network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operator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werful, user friendly command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ing most or all management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amount of separate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use existing equi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ew entire network as unified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ive elements provide regular feed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station or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information 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Syntax Notation On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define format of PD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distribu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operations performed on transmitted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system or part of shar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for human network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management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monitor and contro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late manager’s requirements into monitoring and control of remote el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ase of network management information extracted from managed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g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s, bridges, hubs, routers equipped with agent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them to be managed from management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ly supply unsolici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 B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network resources as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bject a variable representing one aspect of managed o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 is collection of access points at agent for management of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s standardized across clas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idge, router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management station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uses SN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I uses Common Management Information Protocol (CM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v2 (enhanced SNMP) for OSI and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Capabilit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if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Layou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entralized in simp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distributed in large, complex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management ser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manages pool of ag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may be delegated to intermediate mana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of Distributed Network Managemen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5111"/>
          <a:stretch/>
        </p:blipFill>
        <p:spPr>
          <a:xfrm>
            <a:off x="1143000" y="1371600"/>
            <a:ext cx="69152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gust 1988 SNMP specificatio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management stations and bridges, routers workstations etc supplied with ag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limited, easily implemented MIB of scalar variables and two dimensional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ck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 v2 1993, revised 199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1901-190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work on which network management applications can be bui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 fault management, performance monitoring, accoun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used to exchange management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layer maintains local 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 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system responsible fo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uses management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PM v2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central or distributed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distributes system, some elements operate as manager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s use SNMP v2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request/response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ses UD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going reliable connection not requi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duces management overhe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Relevant to ANS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cribes generic structure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d set of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octets used to represent data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 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from one syntax to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y data represented in bit patterns while in trans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14080"/>
          <a:stretch/>
        </p:blipFill>
        <p:spPr>
          <a:xfrm>
            <a:off x="3962520" y="0"/>
            <a:ext cx="5181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general framework with which MIB defined and constru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data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resources are represented and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urages simplicity and extens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rs and two dimensional arrays of scalars (tables)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er message header deals with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types of PD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PDU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498"/>
          <a:stretch/>
        </p:blipFill>
        <p:spPr>
          <a:xfrm>
            <a:off x="457200" y="1798560"/>
            <a:ext cx="8153280" cy="42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security issues of SNMP v1/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570-257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osed standard January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overall architecture and security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be used with SNMP v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User-Based Security (UB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s that messag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me from identified sour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alt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delayed or replay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ed messages using 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nfigure agents to provide a number of levels of access to MI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to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 ope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nic Mai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heavily used application on any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Mail Transfer Protocol (SM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simple text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urpose Internet Mail Extension (MIM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other type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, images, video cli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8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concerned with format of messages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vered in RFC 822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uses info written on envelope of mai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look at cont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ndardize message character set to 7 bit ASCI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log info to start of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ws path tak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reated by user agent program (mail cli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consists of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eader containing recipient’s address and other inf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dy containing user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queued and sent as input to SMTP sender pro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a server process (daemon on UNI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Message Cont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queued message h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 header with message envelope and list of recipi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ssage body, composed by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list of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rived by user agent from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be listed in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require expansion of mailing li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need replacement of mnemonic names with mailbox n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CCs indicated, user agent needs to prepare correct message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bstract and Transfer Syntaxes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22414"/>
          <a:stretch/>
        </p:blipFill>
        <p:spPr>
          <a:xfrm>
            <a:off x="457200" y="1844640"/>
            <a:ext cx="815328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en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kes message from que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to proper destination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a SMTP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 one or more TCP connections to port 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may have multiple senders a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should be able to create receivers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elivery complete, sender deletes destination from list for tha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all destinations processed, message is de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m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ssage destined for multiple users on a given host, it is sent only o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to users handled at destination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ultiple messages ready for given host, a single TCP connection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ves overhead of setting up and dropping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ssible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unreach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out of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connection fail during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can re-queue mai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up after a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ulty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changed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irect if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 user if n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Protocol - Reliability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transfer messages from sender to receiver over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mpts to provide reliabl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guarantee to recover lost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d to end acknowledgement to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indication delivery not 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considered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arriving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s in user mailbox or copies to outgoing queue for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ify local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al with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ck of disk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responsible for message until receiver confirm complet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mail has arrived at host, not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direct transfer from sender host to receiver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go through intermediate machine via forwarding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can specify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may have 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rs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limited to conversation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 function is to transfer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 of mail handling beyond scope of SMT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differ between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Mai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391"/>
          <a:stretch/>
        </p:blipFill>
        <p:spPr>
          <a:xfrm>
            <a:off x="685800" y="1415880"/>
            <a:ext cx="7620120" cy="54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ystem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s and responses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itiative with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es TCP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command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ELO&lt;SP&gt;&lt;domain&gt;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and generates exactly one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250 requested mail action ok; comp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pl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ding digit indicates categ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completion reply (2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intermediate reply (3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ent negative completion reply (4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anent negative completion reply (5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d definition of a data structure using ASN.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of module used as abstract syntax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Pha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set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command-response pai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etu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opens TCP connection with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receiv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20 &lt;domain&gt; service rea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L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sender’s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50 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ail service not available, step 2 above becom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21 service not avail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may send one or more message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ommand identifies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reverse path to used for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returns 250 OK or appropriate fail/error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or more RCPT commands identifies recipients for the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reply for each recip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mand transfers message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 message indicated by line containing just period (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osing 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te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QUIT and waits for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initiate TCP clos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s TCP close after sending reply to Q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 for Text Message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FC 88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viewed as having envelope and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velope contains information required to transmit and deliver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sequence of lines of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general memo frame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ader usually keyword followed by colon followed by argu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e:Tue, 16 Jan 1996 10:37:17 (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: “William Stallings” &lt;ws@host.com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:The syntax of RFC 8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: Smith@other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c: Jones@Yet-another_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the main text, delimited from the header by a blank li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urpose Internet Mail Extension (MIME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sion to RFC82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can not transmit execut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uencode and other schemes are avail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t standardiz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transmit text including international characters (e.g. â, å, ä, è, é, ê, ë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8 bit ASCI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may reject mail over certain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lation between ASCII and EBCDIC not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gateways to X.400 can not handle none text data in X.400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SMTP implementations do not adhere to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LF, truncate or wrap long lines, removal of white space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 of M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ve new message header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I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Descri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content formats def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 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ent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xed, Parallel, Alternative, Dig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, Partial, External-bod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peg, gi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pe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tscri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ctet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ME Transfer Encoding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elivery across wide largest range of environ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 val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(7bit, 8bit, binary) no encoding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vide info about nature of da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oted-prin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largely printable ASCII charac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-printing characters represented by hex c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6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ps arbitrary binary input onto printable out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-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med nonstandard enco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 of Modu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modulereference&gt;DEFINITIONS::=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BEG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EX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IM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AssignmentsLi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which may be imported by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to be imported from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ype assignments, value assignments, macro defini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name&gt;::=&lt;description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 64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28763"/>
          <a:stretch/>
        </p:blipFill>
        <p:spPr>
          <a:xfrm>
            <a:off x="1762200" y="1400040"/>
            <a:ext cx="561960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ypertext Transfer Protoco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lying protocol of the World Wid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protocol for transferring hyper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ransmitting information with efficiency necessary for hypertext jum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transfer plain text, hypertext, audio, images, and Internet accessibl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action oriented client/serv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etween Web browser (clinet) and Web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transaction treated independen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new TCP connection for each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te connection when transaction comple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Ter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atew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HTT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rcRect l="0" t="0" r="0" b="10920"/>
          <a:stretch/>
        </p:blipFill>
        <p:spPr>
          <a:xfrm>
            <a:off x="457200" y="1658880"/>
            <a:ext cx="815328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mediate HTTP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rcRect l="0" t="0" r="0" b="11160"/>
          <a:stretch/>
        </p:blipFill>
        <p:spPr>
          <a:xfrm>
            <a:off x="609480" y="1378080"/>
            <a:ext cx="769644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 to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 to 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16819"/>
          <a:stretch/>
        </p:blipFill>
        <p:spPr>
          <a:xfrm>
            <a:off x="1752480" y="1362240"/>
            <a:ext cx="563904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al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che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ag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g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Metho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-Line = Method &lt;SP&gt; Request_URL &lt;SP&gt; HTTP-Version &lt;CRLF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hod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e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t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le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n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a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rapp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tension-metho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exical Conven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out not signific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ents delimited by pair of hyphens (--) at start and pair of hyphens or end of line end of com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s, type references and module names consist of upper and lower case letters, digits and hyphe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 starts with low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reference or module name begins with upp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t in type consists of all upper case let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Header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char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or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odified si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line followed by one or more general, response and entity headers, followed by optional 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-Line = HTTP-Version &lt;SP&gt; Status-Code &lt;SP&gt; Reason-Phrase 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us C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ccess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y af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-Authent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MD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2276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i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st mod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R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s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Bod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bitrary sequence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 transfers any type of data includ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pretation of data determined by header field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encoding, content type,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 Consort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N.1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Data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o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s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g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rived from other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 CHOICE and ANY types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data type (except CHOICE and ANY) has associated t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vers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lly usefu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in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oolean, Integer, Re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1T10:08:17Z</dcterms:created>
  <dc:creator>Adrian &amp; Wendy</dc:creator>
  <dc:description/>
  <dc:language>en-US</dc:language>
  <cp:lastModifiedBy>Adrian J Pullin</cp:lastModifiedBy>
  <dcterms:modified xsi:type="dcterms:W3CDTF">1999-11-24T15:27:34Z</dcterms:modified>
  <cp:revision>161</cp:revision>
  <dc:subject/>
  <dc:title>William Stallings Data and Computer Communications</dc:title>
</cp:coreProperties>
</file>